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A226-748D-44B3-BE3C-18F82921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20B7-6EFB-4929-9937-ED8E3740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2E68-4418-49DB-ACC6-E8E4B3798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>
                <a:gd name="textAreaLeft" fmla="*/ 0 w 1860480"/>
                <a:gd name="textAreaRight" fmla="*/ 1860840 w 1860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1473480"/>
                <a:gd name="textAreaBottom" fmla="*/ 1473840 h 1473480"/>
              </a:gdLst>
              <a:ahLst/>
              <a:rect l="textAreaLeft" t="textAreaTop" r="textAreaRight" b="textAreaBottom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>
                <a:gd name="textAreaLeft" fmla="*/ 0 w 1842840"/>
                <a:gd name="textAreaRight" fmla="*/ 1843200 w 184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>
                <a:gd name="textAreaLeft" fmla="*/ 0 w 1849320"/>
                <a:gd name="textAreaRight" fmla="*/ 1849680 w 1849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382400"/>
                <a:gd name="textAreaBottom" fmla="*/ 1382400 h 1382400"/>
              </a:gdLst>
              <a:ahLst/>
              <a:rect l="textAreaLeft" t="textAreaTop" r="textAreaRight" b="textAreaBottom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>
                <a:gd name="textAreaLeft" fmla="*/ 0 w 1258920"/>
                <a:gd name="textAreaRight" fmla="*/ 1258920 w 12589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1617480"/>
                <a:gd name="textAreaBottom" fmla="*/ 1617840 h 1617480"/>
              </a:gdLst>
              <a:ahLst/>
              <a:rect l="textAreaLeft" t="textAreaTop" r="textAreaRight" b="textAreaBottom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ltf.austraining.com.a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age 6 Resource Development: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640" y="369252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tiv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here to find listening stimulus?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Magaz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Reading materials, text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TV,film,music,app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ilm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YouTube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Tune in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Documents and Settings\Merryl\Local Settings\Temporary Internet Files\Content.IE5\7NYNDIUP\MM900283262[1].gif"/>
          <p:cNvPicPr/>
          <p:nvPr/>
        </p:nvPicPr>
        <p:blipFill>
          <a:blip r:embed="rId1"/>
          <a:stretch/>
        </p:blipFill>
        <p:spPr>
          <a:xfrm>
            <a:off x="6443640" y="39276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Let’s look at a sample template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Range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equencing tasks in order of diffi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will you differentiate the ta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will you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will you keep a record of this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Let’s look at a sample task…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s this task a non-HSC sty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to differentiate this 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to provid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s the feedback meaningful?</a:t>
            </a:r>
            <a:br>
              <a:rPr sz="2400"/>
            </a:b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orking in small groups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hoose topic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Discuss ideas for listening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Brainstorm non-HSC sty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eque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omplete templates (hard cop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Sharing ideas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7280" y="1412640"/>
            <a:ext cx="7491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Each group presents their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Working in language specific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Develop/refine listening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Brainstorm a bank of tasks related to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Develop fully one or two tasks with feedback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Use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ave on L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1655640" y="3711600"/>
            <a:ext cx="45720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rryl Wah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ucation Consultant K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vel 12, 99 York Street, Sydney NSW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www.aisnsw.edu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ail mwahlin@aisnsw.edu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ct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48836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273e6f"/>
                </a:solidFill>
                <a:latin typeface="Arial"/>
              </a:rPr>
              <a:t>The AIS places the highest priority on the safety of its staff and visitors.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18920" y="3357360"/>
            <a:ext cx="67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Beep, beep’ tone alerts wardens and occu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Whoop, whoop’ tone signals evac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403280" y="1557360"/>
            <a:ext cx="7561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Arial"/>
              </a:rPr>
              <a:t>Should you require first aid assistance, please do not hesitate to ask 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Arial"/>
              </a:rPr>
              <a:t>In the event of a building evacuation being required the following procedure app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332000" y="5157720"/>
            <a:ext cx="75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Arial"/>
              </a:rPr>
              <a:t>I will now explain the route to the nearest fire exit and if evacuation is required I will be your guide to the assembly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3e6f"/>
                </a:solidFill>
                <a:latin typeface="Arial"/>
              </a:rPr>
              <a:t>Languages update!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87280" y="1412640"/>
            <a:ext cx="7491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1. Australian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Shape paper to be rev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Two strands: Communicating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350hrs mandated for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Additional languages- Hindi, Turk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Australian Curriculum cont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012 - Shape paper re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Italian and Chinese curriculum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Collating of online resources to support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Chinese and Italian materials trialled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013 - writing of all other languag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014 –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6920" y="-29664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66560" y="691920"/>
            <a:ext cx="777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2. Languages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nline from end of August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losing date 21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st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3. Endeavour teacher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www.eltf.austraining.com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4. AIS 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1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st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May- Getting real i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7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July – Differentiated learning i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7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August – Une Journee avec Aure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0428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The plan for today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The aims of today ar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spcAft>
                <a:spcPts val="75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e326a"/>
                </a:solidFill>
                <a:latin typeface="Arial"/>
              </a:rPr>
              <a:t>To develop skills in creating tasks (non-HSC style) that can be used for formative assessment for Stag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spcAft>
                <a:spcPts val="75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e326a"/>
                </a:solidFill>
                <a:latin typeface="Arial"/>
              </a:rPr>
              <a:t>To develop listening stimulus,associated tasks and feedback strategies that provide the scaffolding for effective and valid summativ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C:\Documents and Settings\Merryl\Local Settings\Temporary Internet Files\Content.IE5\YY748Q5Q\MC900439849[1].wmf"/>
          <p:cNvPicPr/>
          <p:nvPr/>
        </p:nvPicPr>
        <p:blipFill>
          <a:blip r:embed="rId1"/>
          <a:stretch/>
        </p:blipFill>
        <p:spPr>
          <a:xfrm>
            <a:off x="4140360" y="4797360"/>
            <a:ext cx="19461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6920" y="-25056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87280" y="691920"/>
            <a:ext cx="7491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Today w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Discuss what formative assessm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Brainstorm different types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Pool our ideas for stimulus listen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Create and refine listening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Develop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Share ideas about how to provide effec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6920" y="223560"/>
            <a:ext cx="748836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hat is formative assessment?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87280" y="836640"/>
            <a:ext cx="7491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 In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pportunity for students to demonstrate thei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pportunity for students to rece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um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hat does formative assessment look like in the Languages classroom (Stage 6)?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628640"/>
            <a:ext cx="7491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peaking practice (beginning/end of each le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n class tasks (all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mework tasks (all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Vocab/script 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ngoing projects ( journals, portfolios, blog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liday tasks (all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2-05-03T04:41:23Z</dcterms:modified>
  <cp:revision>129</cp:revision>
  <dc:subject/>
  <dc:title>Slide 1</dc:title>
</cp:coreProperties>
</file>